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82F-D086-41B2-AB2F-981B4EE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3E2-4F2A-4B58-BF0D-F72F280C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81D-4093-4DEE-8736-0F60EAF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925-E77F-43C6-B1FC-2A970E3C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C8A-BC99-4D61-BEAC-A0C4A04A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143-B7A4-4EF5-8F17-CBC814F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386-5E75-4B25-AB98-38EA385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90F-9E49-4FFE-899C-B1C67EC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9DB7-E5F1-45AD-902D-DE75C0B5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4C0D-6148-4C47-B233-CB3CE64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F9BB-08A0-4C53-BACD-6BC11E6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F9D-43C5-4664-A505-5F46C0E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555-6AAB-4408-97AB-C761F3C7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83D9-316E-4706-AE31-F71E952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9B1F-714D-4D04-92E5-3D85772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95EA-1335-47AF-AAD1-91B8F198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B146-71E8-40CB-9094-4141F39A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B8C-5D06-4DB3-998D-5CC8849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B57-E39B-461F-91AF-FA8782E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48A-4E4B-437C-AA2F-C6B12CC4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0ED-8B07-4CD8-BE3C-9246421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392-3A38-4EDF-856B-41E4990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206-61FF-492D-BEC9-ADED6D1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D21-1A52-4A51-8667-9D5EBD4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308-F4E0-4CF0-9CC6-1EED8BB104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9F7-6F8F-4C93-AADA-0C81CC8B84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tes: Cell Structure and Function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2666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Cell Structure and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ochondr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523880"/>
            <a:ext cx="7696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“Powerhouse” of the ce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membrance organel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attered throughout the cel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duction of ATP (energy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ugh the proces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ar respi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533520" y="54864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17220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7620120" y="48769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lgi Bod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523880"/>
            <a:ext cx="7696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tacks of membra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receive lipids and prote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the ER and distributes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other organelles or outside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1295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426708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7913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s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523880"/>
            <a:ext cx="7696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Tiny spherical organel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contain digestive enzy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eat food particles, fore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teria, and broken down par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295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411480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238880" y="5715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uole(s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torage of enzym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, and waste products. 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 close to 90% of a plan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29528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4191120" y="556272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loroplas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Contains the gr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ment – Chlorophyll to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nlight for photosynthe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219320" y="54864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3886200" y="5410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6781680" y="54100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toskelet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Protein tubule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aments throughout the cell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framework (shape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) of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1219320" y="54100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541008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53341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 chains of rig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ose for the strengthen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lan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1143000" y="54864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3341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25780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286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(Plasma)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523880"/>
            <a:ext cx="7696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ipid bilayer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s the cell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side environment.  Provi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ility and support.  Keeps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molecules but lets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es in or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38088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5627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io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icrotubules that mig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opposite poles of the cell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 in cell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752480" y="54100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5410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100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hort, numerous, hair-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ions out of the c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lasma) membrane to aid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54100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33412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343400" cy="376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43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ell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er, whip-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s to aid in locomoti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s typically only have 1 or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1219320" y="52578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52578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876560" cy="525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257800" cy="3733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4724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lgi 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41148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ysos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53000" y="1523880"/>
            <a:ext cx="4095720" cy="358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403848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ll (plasma)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4419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1440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43434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oug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ibosomes on the Roug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914400"/>
            <a:ext cx="4210200" cy="4419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44197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moot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u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Directs and manages 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activities, since it conta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, the cellular genet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1143000" y="56386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191120" y="563868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2388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4400" y="609480"/>
            <a:ext cx="4940280" cy="4445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381480" y="106668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39625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4000680" cy="5033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4920" y="3809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lag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19440" y="685800"/>
            <a:ext cx="3924360" cy="4191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3962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tri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338880" cy="4496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4952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romatin and 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5800" y="5562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74674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541044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5410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867040" y="762120"/>
            <a:ext cx="4753080" cy="4572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5257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cleo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Eu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olu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Region of the Nucl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produces Ribosomes, wh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involved in prot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11430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41148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31520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76212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Eu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ro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2133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imal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295280" y="2133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lant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7920" y="83808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imal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lant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28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omatin / Chrom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 strands of tang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 and proteins tha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ar genetic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1219320" y="56386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114800" y="55627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72388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toplas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523880"/>
            <a:ext cx="7696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Clear jelly-like fluid con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ining water, salts, and org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es.  Site whe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mbly of protein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age takes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990720" y="56386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80988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23888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ooth Endoplasmic Reticulu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embrane system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d sacs and tunnel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ivery of lipids and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3716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11480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238880" y="5715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gh Endoplasmic Reticulu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embrane system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d sacs and tunnels stu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ribosomes for deliver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age of prote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1430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1148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0102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b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cated throughou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and on the Endoplasm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iculum.  Sites where prote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assembl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1066680" y="56386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038480" y="55627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7010280" y="54864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7:09:33Z</dcterms:created>
  <dc:creator>sautrey</dc:creator>
  <dc:description/>
  <dc:language>en-US</dc:language>
  <cp:lastModifiedBy>pc owner</cp:lastModifiedBy>
  <dcterms:modified xsi:type="dcterms:W3CDTF">2008-09-16T15:07:49Z</dcterms:modified>
  <cp:revision>6</cp:revision>
  <dc:subject/>
  <dc:title>Notes: Cell Structure and Function</dc:title>
</cp:coreProperties>
</file>